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0E69-4BB6-41D1-A254-6BB0B93B5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F48A-AAB4-4384-996B-96940DDE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79E1-1C6E-43FD-AC2F-A50501C89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7F20-991A-4989-B0B1-8CC1B2032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61B3-0C7D-4003-9BA4-32B4F3728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8007-B59B-40E0-A921-2E1A1B4B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BE5E-C3AD-4788-B025-F9D7F313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DC40-D163-4D61-8436-F2A54ABF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60DD-22BF-4AEE-A967-15897C87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0E79-5935-433A-B52D-67AA731A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BE6F-455B-4486-AA60-823EB83D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7437-6BF5-4A4D-989B-7D7C3D3C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D656-7829-455F-8A81-34214EC4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3B8F-8101-4A37-B364-587CF13F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1A8C-738A-4CA3-9CA0-BEB5F23A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352E-7811-4674-9EB9-72E48222B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6A6B-AB8A-4A81-A89F-DF7D275FC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C37F-6234-4C7A-AD4A-36973417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3542-3323-4946-84BF-CCAAC103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66F3-EBB9-4C2E-8199-74E761DC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0F9B-FAD3-48CF-8AB8-05A0A69A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8601-38B5-41ED-92FC-C9A6D1D2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5D39-4B02-4A73-B7FE-32D484D2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E75D-757D-4DF7-9111-06BE3626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65C6-4D3A-4486-A026-18E7D4BD7131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DB57-BF16-4D15-A9DC-A4681B3603AC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a Cas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r: Eva Bruklich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 advTm="5000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s un garaje. Es grande y bonito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03680" y="2567160"/>
            <a:ext cx="3778200" cy="23032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Mi Cas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5257800" cy="4572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Mi Cocin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s una cocina. Es grande y impresioant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603680" y="1828800"/>
            <a:ext cx="3778200" cy="36576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l Comedor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s un comedor. Es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ú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ico y bonito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03680" y="1828800"/>
            <a:ext cx="3778200" cy="36576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a Sala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s una sala. Es brillante y impresionante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603680" y="2503440"/>
            <a:ext cx="3778200" cy="24894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l Ba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Arial"/>
              </a:rPr>
              <a:t>ñ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s un ba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ño. Es incredible y bello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603680" y="2690640"/>
            <a:ext cx="3778200" cy="24274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l Cuart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s un cuarto. Es grande y bello!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603680" y="2503440"/>
            <a:ext cx="3778200" cy="26146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l Patio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s un patio. Es grande y bonito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533840" y="2260440"/>
            <a:ext cx="3778200" cy="29815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l Jard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Arial"/>
              </a:rPr>
              <a:t>í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s un jard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í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. Es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único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y grand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819680" y="1828800"/>
            <a:ext cx="3419280" cy="34732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5:34:21Z</dcterms:created>
  <dc:creator>bruklicheva</dc:creator>
  <dc:description/>
  <dc:language>en-US</dc:language>
  <cp:lastModifiedBy>bruklicheva</cp:lastModifiedBy>
  <dcterms:modified xsi:type="dcterms:W3CDTF">2012-03-28T17:52:11Z</dcterms:modified>
  <cp:revision>8</cp:revision>
  <dc:subject/>
  <dc:title>Mi Casa</dc:title>
</cp:coreProperties>
</file>